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1F75-1EC0-41F7-ADF2-EC2D9A094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7143-669F-408F-B154-49C64AD5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070B-8041-44CD-B109-73FEFE0E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D2D0-D412-45FB-B4D1-4084C3CDD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F338-592E-46E9-821E-2C834AC9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38E4-B4FD-45ED-B03C-FB440EB7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ED5C-9995-464E-B7D7-666FEA30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0463-34EC-49BA-B735-F2F2E6F3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CB03-2389-45F4-83A3-281C49FE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6FFD-AF6C-420D-B618-608DDAAD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1012-75FF-46DE-8485-081C7774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42BD-E11C-4845-9E9D-C7107839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F487-0DA6-49EF-AD51-CE021296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620B-F56D-4FB5-AEEA-210CFFF4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1175-0598-4A0D-B2C2-2BF14BA4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4F66-93FD-4507-BBB8-73774DEFC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9678-B0EF-4136-9C43-98E99ADA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A32DD-CE82-4BFE-99C2-FF6DEBF8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359B4-2723-4BDE-8BC4-375061DD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3D7F4-D527-439E-B9AA-A215430B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9F292-7D9D-498D-876A-9C933F93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63A30-2FFF-427B-95CE-50B1B065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7D4E-637D-41C3-A129-77EA50F9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BB459-F787-4A08-B521-A25471CA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EAD06-1FC7-4A71-BACA-BD95FD25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E6273-BA8F-4053-8B1D-2DAD5638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85850-2184-4DC5-B4BF-D3091A5D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F532E-4B5F-49B1-A461-81E2E727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0CDD9-FC8E-4F27-B2E7-99E9849F1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720DB-C4CF-40F8-8182-0AA2BDF0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7A4E8-3003-475F-9DF5-DC607AC4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DA7D7-F767-48CA-8E00-60418514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ED6D6-8D40-4034-89E3-E2C4D99D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D4CC-20F4-4C9C-937E-4A13F998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12762-1C82-4609-A1B6-73456BD4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BE660-E432-4832-9744-6BC4FDE6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CD31C-5C01-4B14-A6D8-47BF221E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9AE81-DDF7-4E98-B2FC-E3D519D5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2613B-B692-4D8B-A8D9-2348984F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455E9-5EDF-4316-BB34-A7A5B479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787C8-9CCB-42FD-BC63-1BBB9074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8CEF8-E4C2-4FCD-A6F8-97E9C8659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16947-DE26-4210-B199-1D8F3AAE4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7654D-518E-4C64-99D6-DC4D6114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DF6C-31F3-447E-B45A-892ACAFB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18081-70D4-472B-A90F-B206AB06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62585-B0AF-44F7-BE74-898333BD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CBB41-45D7-4787-BF93-3F7496F6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2D517-AB0F-4941-9AF9-D0A0D758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B3222-3ACA-4891-B09C-61E633AE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C3E56-2C3C-412A-9891-EA1BF723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5607B-6C58-43BB-83B2-04E90EC5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B757E-1F3B-44B3-9BEF-8677B0C2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B71C7-38F6-4702-A02E-7A43A1CC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63D52-A432-40BF-B35D-28464ECF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1765-3E0F-4125-8DF1-C7ECB0C1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45CC3-B45E-44CC-8188-2DF318C64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53377-8306-495D-90E9-D1E897B77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A9AAD-3440-4F4A-8DB4-D3264033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3AE3D-E789-44B8-B48D-9FCACF0D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BECCA-B42D-4CC8-9B94-06128448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F8798-A530-40AD-88E6-76F429B4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F983D-44E1-4C68-BC35-CAE8A23C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F774E-C216-4367-B70D-C044AB47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F70DE-EB0C-4121-AAEA-974ACFD1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9B1E5-D7FC-417F-826D-B6DB5CE9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6E44-004A-4FD5-8A53-23DB3286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00E59-0739-4565-A080-7A67DA2A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7297B-8B5E-438F-8EE7-83F90C1D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AC4E7-296B-473E-A3A3-01FDE3F1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2907D-040A-4C1E-9C5D-EEC8979F7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53A24-B6D8-4D0F-A53A-A62D9F0E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41D6E-166C-40FF-9E1E-A9E7D471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DE80C-41BB-423A-A93E-FB79B86A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EA4AB-AC1D-4577-9F70-47EDC7D7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EB6F0-0E83-48A7-BE97-8988763E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05769-DD82-421E-B2E3-903FF95B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FE91-633B-425B-B72B-AF7E9674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6CC2F-C1A3-45F6-A8DC-5B9B0733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7FEF7-B1D4-4291-8327-90DABCA0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C4515-78F5-44F9-A01F-8641D37A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521F9-09AA-4067-8F7C-AC872F701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55708-77B3-432D-868D-DF8E131C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CA7E9-9F38-4BA3-A55D-8D6FC9A7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80A95-BAA2-4403-9718-DCCB126B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3B27C-4324-4489-B900-E856B3BB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8A7FE-3B11-499D-B772-5A156544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C5E51-1FC4-4B63-84B4-9E61360D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5EA6-3A93-4160-92F3-3C6AD819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6620C-37AD-4549-97C9-7A71E314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FA66B-5E0A-44CB-B3C7-685A3D43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7CBB0-679B-483A-ACD0-DF6A1F7D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F36F1-AD84-4BA7-A3AC-6463679C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CF54B-911D-4F47-BA22-B4BC6571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AB37E-4851-4F76-86F9-7A63B550D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6B9E2-476A-4B51-9458-F32ADD03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520B-5AA5-4FCF-9E15-F82058A65F4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A0F2-E03B-4B44-9088-A34CA6956F5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E48B-7E62-41F2-A359-5C7582FA536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431E-EFBB-48B0-997C-B8051D8F202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4EC5-D9E6-4E23-927F-9EB7898C843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B378-74DA-4D27-BAD3-D1C422F2C8B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DB41-264F-40A8-B510-DA9B4E7EE63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7E58-4AAF-4B60-8D54-10A38C74C86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rs. Henry drove 26 miles from her house to the farm to pick vegetables.  She put 4 pumpkins and 10 potatoes in the cart.  Then she added 7 tomatoes and 6 peppers.  After putting 2 watermelons in the cart, she loaded everything in her car and drove straight home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Tit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at was the total number of miles that Mrs. Henry drove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3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1426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f the heaviest pumpkin weighed 4 pounds and the lightest pumpkin weighed 2 pounds, what would be a reasonable total weight for the pumpkins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143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f she sold the 7 tomatoes to her neighbor for 5 cents each, how much did her neighbor have to pay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0663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f Mrs. Henry cut each watermelon into 12 equal slices to serve to her garden club, how many people could she serve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450720" y="133200"/>
            <a:ext cx="8242560" cy="9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0666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at was the total number of fruits and vegetables Mrs. Henry placed in the cart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450720" y="133200"/>
            <a:ext cx="8242560" cy="9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21:03:23Z</dcterms:created>
  <dc:creator>127lynchk</dc:creator>
  <dc:description/>
  <dc:language>en-US</dc:language>
  <cp:lastModifiedBy>127partidak</cp:lastModifiedBy>
  <dcterms:modified xsi:type="dcterms:W3CDTF">2011-10-07T20:45:53Z</dcterms:modified>
  <cp:revision>7</cp:revision>
  <dc:subject/>
  <dc:title>Monday</dc:title>
</cp:coreProperties>
</file>